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059-56F5-4920-A19A-EEF903C9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F57-88CC-46FD-BF6D-114BC09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98E-864C-456C-9A3E-DB77EF48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8A8-33D4-453A-800D-A1D9649C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540-2595-4F61-9039-F1AFAEA7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556-EC33-4058-A965-B89D1227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91D-D589-428E-BF87-8D585848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548-E244-4AB7-877B-6C22F590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D48-E890-4A39-8A4C-FC0C9F6A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85D-3641-4C1A-B1FD-47D7348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AF0-9FD6-4E3C-8D07-D44BF8C1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2D1-18A1-4FAC-A4D0-06F2E093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4075-39EA-4632-9198-8A80BB2B7EA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Ravie"/>
              </a:rPr>
              <a:t>ESSAY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Ravie"/>
              </a:rPr>
              <a:t>WRIT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EP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G00315_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95360" cy="259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84872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rite the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introdu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rite the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main body</a:t>
            </a:r>
            <a:r>
              <a:rPr b="0" lang="en-US" sz="6600" spc="-1" strike="noStrike">
                <a:solidFill>
                  <a:srgbClr val="000000"/>
                </a:solidFill>
                <a:latin typeface="Ravie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rite your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conclu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4724280" cy="144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th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2819520" cy="1981440"/>
          </a:xfrm>
          <a:prstGeom prst="cloudCallout">
            <a:avLst>
              <a:gd name="adj1" fmla="val 80574"/>
              <a:gd name="adj2" fmla="val 39421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51460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u need to read all the questions on offer. Reading all the possibilities allows you to make an informed choice. Some questions you will recognise, some you will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e will usually be a question on each aspect belo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s/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ructure (opening/incident/e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eelings and emo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105520" cy="213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Re-read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the question you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280"/>
            <a:ext cx="2743200" cy="1981440"/>
          </a:xfrm>
          <a:prstGeom prst="cloudCallout">
            <a:avLst>
              <a:gd name="adj1" fmla="val 70370"/>
              <a:gd name="adj2" fmla="val 40064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43828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ce you have made a decision on the question you should re-read this question. This is to ensure that you under stand all parts of the question. If there are any words you do not understand then choose another ques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67080" y="228600"/>
            <a:ext cx="4648320" cy="1828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derline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2666880" cy="2057400"/>
          </a:xfrm>
          <a:prstGeom prst="cloudCallout">
            <a:avLst>
              <a:gd name="adj1" fmla="val 87023"/>
              <a:gd name="adj2" fmla="val 2908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352680"/>
            <a:ext cx="79246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is is to ensure that you are focused on the important parts of the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For example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important character and explain why they are importa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Becomes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 character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and explain why they ar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3733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You should keep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ahoma"/>
              </a:rPr>
              <a:t>repeating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those keywords throughout your essa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D00709_(p)" descr="Click To Download"/>
          <p:cNvPicPr/>
          <p:nvPr/>
        </p:nvPicPr>
        <p:blipFill>
          <a:blip r:embed="rId1"/>
          <a:stretch/>
        </p:blipFill>
        <p:spPr>
          <a:xfrm>
            <a:off x="-457200" y="1752480"/>
            <a:ext cx="579132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8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structure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is like a hambur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95480" y="5334120"/>
            <a:ext cx="6019920" cy="1556280"/>
            <a:chOff x="2895480" y="5334120"/>
            <a:chExt cx="6019920" cy="1556280"/>
          </a:xfrm>
        </p:grpSpPr>
        <p:sp>
          <p:nvSpPr>
            <p:cNvPr id="51" name=""/>
            <p:cNvSpPr/>
            <p:nvPr/>
          </p:nvSpPr>
          <p:spPr>
            <a:xfrm>
              <a:off x="5791320" y="5334120"/>
              <a:ext cx="312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Conclus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895480" y="5790960"/>
              <a:ext cx="2667240" cy="759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819520" y="2362320"/>
            <a:ext cx="6324480" cy="1600200"/>
            <a:chOff x="2819520" y="2362320"/>
            <a:chExt cx="6324480" cy="1600200"/>
          </a:xfrm>
        </p:grpSpPr>
        <p:sp>
          <p:nvSpPr>
            <p:cNvPr id="54" name=""/>
            <p:cNvSpPr/>
            <p:nvPr/>
          </p:nvSpPr>
          <p:spPr>
            <a:xfrm>
              <a:off x="5410080" y="2362320"/>
              <a:ext cx="373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Introduct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819520" y="2971800"/>
              <a:ext cx="2133360" cy="990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276720" y="3657600"/>
            <a:ext cx="5562360" cy="1676520"/>
            <a:chOff x="3276720" y="3657600"/>
            <a:chExt cx="5562360" cy="1676520"/>
          </a:xfrm>
        </p:grpSpPr>
        <p:sp>
          <p:nvSpPr>
            <p:cNvPr id="57" name=""/>
            <p:cNvSpPr/>
            <p:nvPr/>
          </p:nvSpPr>
          <p:spPr>
            <a:xfrm>
              <a:off x="5867280" y="3657600"/>
              <a:ext cx="2971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Main bod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276720" y="4267080"/>
              <a:ext cx="2286000" cy="10670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657600" cy="1904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key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280"/>
            <a:ext cx="2590920" cy="1905120"/>
          </a:xfrm>
          <a:prstGeom prst="cloudCallout">
            <a:avLst>
              <a:gd name="adj1" fmla="val 92648"/>
              <a:gd name="adj2" fmla="val 28666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909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is the time that you decide how to answer the question. Usually the answers can be found from the box below. Just relate these to the question ask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44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KEY IDEAS SHOULD COVER POINTS 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Pl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Charac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. T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. Feel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6.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7.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8. Sym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9. Gen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0. Auth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1. Society’s 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2. Compari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For example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 character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and explain why they ar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Possible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 they are involved in key moments which can create suspense or moments of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ey help us to better understand other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ey help us to appreciate the setting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e character helps reveal the t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lin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rough the actions and dialogue of the character they cause us to feel particular em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590920" cy="1600200"/>
          </a:xfrm>
          <a:prstGeom prst="cloudCallout">
            <a:avLst>
              <a:gd name="adj1" fmla="val 96629"/>
              <a:gd name="adj2" fmla="val 52578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895480"/>
            <a:ext cx="7467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t this point you need to be able to back up your key ideas. To do this you must provide detailed and specific information from the tex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avie"/>
              </a:rPr>
              <a:t>EVIDENCE MEAN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3657600"/>
            <a:ext cx="6476760" cy="1981080"/>
          </a:xfrm>
          <a:prstGeom prst="cloudCallout">
            <a:avLst>
              <a:gd name="adj1" fmla="val -45587"/>
              <a:gd name="adj2" fmla="val 93111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EV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276720"/>
            <a:ext cx="6476760" cy="1981080"/>
          </a:xfrm>
          <a:prstGeom prst="cloudCallout">
            <a:avLst>
              <a:gd name="adj1" fmla="val -45587"/>
              <a:gd name="adj2" fmla="val 93111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QUO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733920"/>
            <a:ext cx="6477120" cy="1981080"/>
          </a:xfrm>
          <a:prstGeom prst="cloudCallout">
            <a:avLst>
              <a:gd name="adj1" fmla="val -39703"/>
              <a:gd name="adj2" fmla="val 35416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AC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9880"/>
            <a:ext cx="8381880" cy="1981440"/>
          </a:xfrm>
          <a:prstGeom prst="cloudCallout">
            <a:avLst>
              <a:gd name="adj1" fmla="val -31134"/>
              <a:gd name="adj2" fmla="val 93111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ANECDO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3920" y="456840"/>
            <a:ext cx="39625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52280"/>
            <a:ext cx="2438280" cy="1600200"/>
          </a:xfrm>
          <a:prstGeom prst="cloudCallout">
            <a:avLst>
              <a:gd name="adj1" fmla="val 102606"/>
              <a:gd name="adj2" fmla="val 484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9480" y="2286000"/>
            <a:ext cx="8305920" cy="3124080"/>
            <a:chOff x="609480" y="2286000"/>
            <a:chExt cx="8305920" cy="3124080"/>
          </a:xfrm>
        </p:grpSpPr>
        <p:pic>
          <p:nvPicPr>
            <p:cNvPr id="165" name="FD00709_(p)" descr="Click To Download"/>
            <p:cNvPicPr/>
            <p:nvPr/>
          </p:nvPicPr>
          <p:blipFill>
            <a:blip r:embed="rId1"/>
            <a:srcRect l="10422" t="10422" r="11397" b="11397"/>
            <a:stretch/>
          </p:blipFill>
          <p:spPr>
            <a:xfrm>
              <a:off x="609480" y="2971800"/>
              <a:ext cx="24386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flipV="1">
              <a:off x="2362320" y="2819160"/>
              <a:ext cx="1981080" cy="9903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22860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NTRODUC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5800" y="2971800"/>
            <a:ext cx="76201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286000"/>
            <a:ext cx="914400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should keep this paragraph as short and to the point as possible. You need only include the follow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The name of the text and the auth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Clearly answer the question us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List your key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n important character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Kristen ITC"/>
              </a:rPr>
              <a:t>I Am Not Esther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leur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ale is Kirby.  She is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important because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she reveals the themes the theme of personal identity, provokes an emotional response for the reader and is involved in moments of ten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152280"/>
            <a:ext cx="259092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48837"/>
              <a:gd name="adj5" fmla="val 148037"/>
              <a:gd name="adj6" fmla="val -84495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52280"/>
            <a:ext cx="2590920" cy="3124440"/>
          </a:xfrm>
          <a:prstGeom prst="borderCallout2">
            <a:avLst>
              <a:gd name="adj1" fmla="val 18750"/>
              <a:gd name="adj2" fmla="val -8333"/>
              <a:gd name="adj3" fmla="val 3657"/>
              <a:gd name="adj4" fmla="val 197796"/>
              <a:gd name="adj5" fmla="val 66768"/>
              <a:gd name="adj6" fmla="val 274018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v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tle – and underlines it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2667240" cy="3200400"/>
          </a:xfrm>
          <a:prstGeom prst="borderCallout2">
            <a:avLst>
              <a:gd name="adj1" fmla="val 18750"/>
              <a:gd name="adj2" fmla="val -8333"/>
              <a:gd name="adj3" fmla="val 3569"/>
              <a:gd name="adj4" fmla="val 146666"/>
              <a:gd name="adj5" fmla="val 73611"/>
              <a:gd name="adj6" fmla="val 180833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s author – uses capital letter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152280"/>
            <a:ext cx="259092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33944"/>
              <a:gd name="adj5" fmla="val 221814"/>
              <a:gd name="adj6" fmla="val -55884"/>
            </a:avLst>
          </a:prstGeom>
          <a:solidFill>
            <a:srgbClr val="6666ff"/>
          </a:soli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2280" y="152280"/>
            <a:ext cx="5257800" cy="5715000"/>
            <a:chOff x="152280" y="152280"/>
            <a:chExt cx="5257800" cy="5715000"/>
          </a:xfrm>
        </p:grpSpPr>
        <p:sp>
          <p:nvSpPr>
            <p:cNvPr id="178" name=""/>
            <p:cNvSpPr/>
            <p:nvPr/>
          </p:nvSpPr>
          <p:spPr>
            <a:xfrm>
              <a:off x="1905120" y="152280"/>
              <a:ext cx="2590560" cy="1295640"/>
            </a:xfrm>
            <a:prstGeom prst="borderCallout2">
              <a:avLst>
                <a:gd name="adj1" fmla="val 18750"/>
                <a:gd name="adj2" fmla="val -8333"/>
                <a:gd name="adj3" fmla="val 8824"/>
                <a:gd name="adj4" fmla="val 174939"/>
                <a:gd name="adj5" fmla="val 228921"/>
                <a:gd name="adj6" fmla="val 232782"/>
              </a:avLst>
            </a:prstGeom>
            <a:solidFill>
              <a:srgbClr val="3333cc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Lists 3 key idea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280" y="3657600"/>
              <a:ext cx="533520" cy="5335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5334120"/>
              <a:ext cx="533160" cy="53316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280" y="4724280"/>
              <a:ext cx="533520" cy="5335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2819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Let’s look at another question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nteresting idea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and explain why it i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nteresting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n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interesting idea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in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Kristen ITC"/>
              </a:rPr>
              <a:t>How Dare You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ne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staway is family violence.  This is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interesting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because it makes the reader feel both sad and angry, gives the reader an insight into a world they may not experience themselves and provides moments of suspense in the tex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228600"/>
            <a:ext cx="2590920" cy="3124080"/>
          </a:xfrm>
          <a:prstGeom prst="borderCallout2">
            <a:avLst>
              <a:gd name="adj1" fmla="val 18750"/>
              <a:gd name="adj2" fmla="val -8333"/>
              <a:gd name="adj3" fmla="val 3657"/>
              <a:gd name="adj4" fmla="val -34009"/>
              <a:gd name="adj5" fmla="val 50509"/>
              <a:gd name="adj6" fmla="val -58027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s author – using capital letter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52280"/>
            <a:ext cx="259092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29472"/>
              <a:gd name="adj5" fmla="val 160907"/>
              <a:gd name="adj6" fmla="val -48347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95680" y="152280"/>
            <a:ext cx="2590560" cy="2057400"/>
            <a:chOff x="4495680" y="152280"/>
            <a:chExt cx="2590560" cy="2057400"/>
          </a:xfrm>
        </p:grpSpPr>
        <p:sp>
          <p:nvSpPr>
            <p:cNvPr id="192" name=""/>
            <p:cNvSpPr/>
            <p:nvPr/>
          </p:nvSpPr>
          <p:spPr>
            <a:xfrm>
              <a:off x="4495680" y="152280"/>
              <a:ext cx="2590560" cy="1295640"/>
            </a:xfrm>
            <a:prstGeom prst="borderCallout2">
              <a:avLst>
                <a:gd name="adj1" fmla="val 18750"/>
                <a:gd name="adj2" fmla="val -8333"/>
                <a:gd name="adj3" fmla="val 8824"/>
                <a:gd name="adj4" fmla="val -48898"/>
                <a:gd name="adj5" fmla="val 71814"/>
                <a:gd name="adj6" fmla="val -84560"/>
              </a:avLst>
            </a:prstGeom>
            <a:solidFill>
              <a:srgbClr val="3333cc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Uses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1447920"/>
              <a:ext cx="0" cy="7617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295280" y="2438280"/>
            <a:ext cx="2667240" cy="2514600"/>
          </a:xfrm>
          <a:prstGeom prst="borderCallout2">
            <a:avLst>
              <a:gd name="adj1" fmla="val 18750"/>
              <a:gd name="adj2" fmla="val -8333"/>
              <a:gd name="adj3" fmla="val 4546"/>
              <a:gd name="adj4" fmla="val 136666"/>
              <a:gd name="adj5" fmla="val -36680"/>
              <a:gd name="adj6" fmla="val 163037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v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tle – and underlines it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1523880" y="7162920"/>
            <a:ext cx="533160" cy="533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81080" y="0"/>
            <a:ext cx="4496040" cy="6400800"/>
            <a:chOff x="1981080" y="0"/>
            <a:chExt cx="4496040" cy="6400800"/>
          </a:xfrm>
        </p:grpSpPr>
        <p:grpSp>
          <p:nvGrpSpPr>
            <p:cNvPr id="197" name=""/>
            <p:cNvGrpSpPr/>
            <p:nvPr/>
          </p:nvGrpSpPr>
          <p:grpSpPr>
            <a:xfrm>
              <a:off x="1981080" y="0"/>
              <a:ext cx="4496040" cy="3809880"/>
              <a:chOff x="1981080" y="0"/>
              <a:chExt cx="4496040" cy="3809880"/>
            </a:xfrm>
          </p:grpSpPr>
          <p:sp>
            <p:nvSpPr>
              <p:cNvPr id="198" name=""/>
              <p:cNvSpPr/>
              <p:nvPr/>
            </p:nvSpPr>
            <p:spPr>
              <a:xfrm>
                <a:off x="3886200" y="0"/>
                <a:ext cx="2590920" cy="1295280"/>
              </a:xfrm>
              <a:prstGeom prst="borderCallout2">
                <a:avLst>
                  <a:gd name="adj1" fmla="val 18750"/>
                  <a:gd name="adj2" fmla="val -8333"/>
                  <a:gd name="adj3" fmla="val 8824"/>
                  <a:gd name="adj4" fmla="val -54166"/>
                  <a:gd name="adj5" fmla="val 208944"/>
                  <a:gd name="adj6" fmla="val -95282"/>
                </a:avLst>
              </a:prstGeom>
              <a:solidFill>
                <a:srgbClr val="3333cc"/>
              </a:solidFill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Lists 3 key idea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81080" y="2743200"/>
                <a:ext cx="533520" cy="533520"/>
              </a:xfrm>
              <a:prstGeom prst="ellipse">
                <a:avLst/>
              </a:prstGeom>
              <a:solidFill>
                <a:srgbClr val="3333cc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00600" y="3276720"/>
                <a:ext cx="533520" cy="533160"/>
              </a:xfrm>
              <a:prstGeom prst="ellipse">
                <a:avLst/>
              </a:prstGeom>
              <a:solidFill>
                <a:srgbClr val="3333cc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057400" y="5867280"/>
              <a:ext cx="533520" cy="5335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0920" y="-22860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You don’t necessarily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t a burger for the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bu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but they hold the burger togeth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98760"/>
            <a:ext cx="609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the same way t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clusion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are not the most important part but they hold your essay together and stop it being mess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j0112288(p)" descr="Click To Download"/>
          <p:cNvPicPr/>
          <p:nvPr/>
        </p:nvPicPr>
        <p:blipFill>
          <a:blip r:embed="rId1"/>
          <a:stretch/>
        </p:blipFill>
        <p:spPr>
          <a:xfrm>
            <a:off x="685800" y="2286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j0121569(p)" descr="Click To Download"/>
          <p:cNvPicPr/>
          <p:nvPr/>
        </p:nvPicPr>
        <p:blipFill>
          <a:blip r:embed="rId2"/>
          <a:stretch/>
        </p:blipFill>
        <p:spPr>
          <a:xfrm>
            <a:off x="6248520" y="3733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5410440" cy="1981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the Main Body of you ess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922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 each key idea you have you  need to write one paragraph. These paragraphs all follow the same form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opic sentenc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stating your key id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videnc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from the text to support you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 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plan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linking your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id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 to the question clearly answering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520" y="3048120"/>
            <a:ext cx="8305560" cy="2438280"/>
            <a:chOff x="533520" y="3048120"/>
            <a:chExt cx="8305560" cy="2438280"/>
          </a:xfrm>
        </p:grpSpPr>
        <p:pic>
          <p:nvPicPr>
            <p:cNvPr id="207" name="FD00709_(p)" descr="Click To Download"/>
            <p:cNvPicPr/>
            <p:nvPr/>
          </p:nvPicPr>
          <p:blipFill>
            <a:blip r:embed="rId1"/>
            <a:srcRect l="10422" t="10422" r="11397" b="11397"/>
            <a:stretch/>
          </p:blipFill>
          <p:spPr>
            <a:xfrm>
              <a:off x="5335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362320" y="4343400"/>
              <a:ext cx="327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8680" y="3962520"/>
              <a:ext cx="3200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AIN BOD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52280" y="228600"/>
            <a:ext cx="2514600" cy="1752480"/>
          </a:xfrm>
          <a:prstGeom prst="cloudCallout">
            <a:avLst>
              <a:gd name="adj1" fmla="val 54796"/>
              <a:gd name="adj2" fmla="val 4212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2819520"/>
            <a:ext cx="922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te your key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se the keywords from the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ould be short and to the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re like a signpost indicating what your paragraph is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28600"/>
            <a:ext cx="8458200" cy="1981080"/>
          </a:xfrm>
          <a:prstGeom prst="cloudCallout">
            <a:avLst>
              <a:gd name="adj1" fmla="val 42435"/>
              <a:gd name="adj2" fmla="val 91828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Ravie"/>
              </a:rPr>
              <a:t>TOPIC SENTEN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2666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Firstly, an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mportant character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in the text is Es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152280"/>
            <a:ext cx="269244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16393"/>
              <a:gd name="adj5" fmla="val 131250"/>
              <a:gd name="adj6" fmla="val -30481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4572000"/>
            <a:ext cx="6673680" cy="2133720"/>
          </a:xfrm>
          <a:prstGeom prst="borderCallout2">
            <a:avLst>
              <a:gd name="adj1" fmla="val 18750"/>
              <a:gd name="adj2" fmla="val -8333"/>
              <a:gd name="adj3" fmla="val 5356"/>
              <a:gd name="adj4" fmla="val -3805"/>
              <a:gd name="adj5" fmla="val -9671"/>
              <a:gd name="adj6" fmla="val -6495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ey idea here is that Esther is the important 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952880"/>
            <a:ext cx="3768840" cy="1297080"/>
          </a:xfrm>
          <a:prstGeom prst="borderCallout1">
            <a:avLst>
              <a:gd name="adj1" fmla="val 18750"/>
              <a:gd name="adj2" fmla="val -8333"/>
              <a:gd name="adj3" fmla="val -55689"/>
              <a:gd name="adj4" fmla="val -10699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rt and to the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2971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Esther is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mportant because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she reveals a the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60440" y="3581280"/>
            <a:ext cx="269244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113736"/>
              <a:gd name="adj5" fmla="val -142652"/>
              <a:gd name="adj6" fmla="val 124648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809880"/>
            <a:ext cx="6553080" cy="2667240"/>
          </a:xfrm>
          <a:prstGeom prst="borderCallout2">
            <a:avLst>
              <a:gd name="adj1" fmla="val 18750"/>
              <a:gd name="adj2" fmla="val -8333"/>
              <a:gd name="adj3" fmla="val 4287"/>
              <a:gd name="adj4" fmla="val 102930"/>
              <a:gd name="adj5" fmla="val -53513"/>
              <a:gd name="adj6" fmla="val 104722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ey idea here is that Esther is an important character because we learn about a theme through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3276720"/>
            <a:ext cx="3810240" cy="1981080"/>
          </a:xfrm>
          <a:prstGeom prst="borderCallout1">
            <a:avLst>
              <a:gd name="adj1" fmla="val 18750"/>
              <a:gd name="adj2" fmla="val -8333"/>
              <a:gd name="adj3" fmla="val -13379"/>
              <a:gd name="adj4" fmla="val -21083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ain, short and to the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28600" y="2514240"/>
            <a:ext cx="922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n be quotes, examples, actions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 should only be 5-6 words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must use “   ’’ around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y must be embed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28600"/>
            <a:ext cx="8458200" cy="1600200"/>
          </a:xfrm>
          <a:prstGeom prst="cloudCallout">
            <a:avLst>
              <a:gd name="adj1" fmla="val 46282"/>
              <a:gd name="adj2" fmla="val 87995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Ravie"/>
              </a:rPr>
              <a:t>EVIDEN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495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This idea is shown when Mr Poata says </a:t>
            </a:r>
            <a:r>
              <a:rPr b="0" lang="en-US" sz="6000" spc="-1" strike="noStrike">
                <a:solidFill>
                  <a:srgbClr val="ff3300"/>
                </a:solidFill>
                <a:latin typeface="Kristen ITC"/>
              </a:rPr>
              <a:t>“It’s private, isn’t it?”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when she asks for help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5029200"/>
            <a:ext cx="297180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10842"/>
              <a:gd name="adj5" fmla="val -124342"/>
              <a:gd name="adj6" fmla="val -19870"/>
            </a:avLst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quote ma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5160" y="5791320"/>
            <a:ext cx="3768840" cy="838080"/>
          </a:xfrm>
          <a:prstGeom prst="borderCallout1">
            <a:avLst>
              <a:gd name="adj1" fmla="val 18750"/>
              <a:gd name="adj2" fmla="val -8333"/>
              <a:gd name="adj3" fmla="val -112689"/>
              <a:gd name="adj4" fmla="val -77842"/>
            </a:avLst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rt qu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7600" y="162000"/>
            <a:ext cx="6019920" cy="3724200"/>
            <a:chOff x="147600" y="162000"/>
            <a:chExt cx="6019920" cy="3724200"/>
          </a:xfrm>
        </p:grpSpPr>
        <p:sp>
          <p:nvSpPr>
            <p:cNvPr id="237" name=""/>
            <p:cNvSpPr/>
            <p:nvPr/>
          </p:nvSpPr>
          <p:spPr>
            <a:xfrm>
              <a:off x="147600" y="162000"/>
              <a:ext cx="6019920" cy="2157480"/>
            </a:xfrm>
            <a:prstGeom prst="borderCallout2">
              <a:avLst>
                <a:gd name="adj1" fmla="val 18750"/>
                <a:gd name="adj2" fmla="val -8333"/>
                <a:gd name="adj3" fmla="val 5296"/>
                <a:gd name="adj4" fmla="val 113634"/>
                <a:gd name="adj5" fmla="val 116777"/>
                <a:gd name="adj6" fmla="val 116111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The quote is embedded: words before and after it to explain the contex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8280" y="2362320"/>
              <a:ext cx="0" cy="1523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2280" y="75960"/>
            <a:ext cx="8839440" cy="6629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I felt sorry for the Grandmother as she was described as being “frail with age”, lived in a “shabby room” and only has one “good brown dress”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0"/>
            <a:ext cx="297180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8865"/>
              <a:gd name="adj5" fmla="val 174231"/>
              <a:gd name="adj6" fmla="val -15652"/>
            </a:avLst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quote ma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95680" y="5105520"/>
            <a:ext cx="4648320" cy="1600200"/>
            <a:chOff x="4495680" y="5105520"/>
            <a:chExt cx="4648320" cy="1600200"/>
          </a:xfrm>
        </p:grpSpPr>
        <p:sp>
          <p:nvSpPr>
            <p:cNvPr id="244" name=""/>
            <p:cNvSpPr/>
            <p:nvPr/>
          </p:nvSpPr>
          <p:spPr>
            <a:xfrm>
              <a:off x="4495680" y="5867280"/>
              <a:ext cx="3311640" cy="838440"/>
            </a:xfrm>
            <a:prstGeom prst="borderCallout1">
              <a:avLst>
                <a:gd name="adj1" fmla="val 18750"/>
                <a:gd name="adj2" fmla="val -8333"/>
                <a:gd name="adj3" fmla="val -10037"/>
                <a:gd name="adj4" fmla="val -32263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short quo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32360" y="5105520"/>
              <a:ext cx="3311640" cy="838080"/>
            </a:xfrm>
            <a:prstGeom prst="borderCallout1">
              <a:avLst>
                <a:gd name="adj1" fmla="val 18750"/>
                <a:gd name="adj2" fmla="val -8333"/>
                <a:gd name="adj3" fmla="val -57953"/>
                <a:gd name="adj4" fmla="val -92185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short quo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90920" y="0"/>
            <a:ext cx="6248160" cy="4495320"/>
            <a:chOff x="2590920" y="0"/>
            <a:chExt cx="6248160" cy="4495320"/>
          </a:xfrm>
        </p:grpSpPr>
        <p:sp>
          <p:nvSpPr>
            <p:cNvPr id="247" name=""/>
            <p:cNvSpPr/>
            <p:nvPr/>
          </p:nvSpPr>
          <p:spPr>
            <a:xfrm>
              <a:off x="2590920" y="0"/>
              <a:ext cx="6248160" cy="2666880"/>
            </a:xfrm>
            <a:prstGeom prst="borderCallout2">
              <a:avLst>
                <a:gd name="adj1" fmla="val 18750"/>
                <a:gd name="adj2" fmla="val -8333"/>
                <a:gd name="adj3" fmla="val 4287"/>
                <a:gd name="adj4" fmla="val -19513"/>
                <a:gd name="adj5" fmla="val 111606"/>
                <a:gd name="adj6" fmla="val -22740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The quotes are embedded: they flow into a sentence which is easy to read and clear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352680" y="2742840"/>
              <a:ext cx="304560" cy="990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57800" y="2742840"/>
              <a:ext cx="532800" cy="17524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560" y="2514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ould refer back and answer the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n include some personal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ll usually answer the second half of the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28600"/>
            <a:ext cx="9144000" cy="1600200"/>
          </a:xfrm>
          <a:prstGeom prst="cloudCallout">
            <a:avLst>
              <a:gd name="adj1" fmla="val -38643"/>
              <a:gd name="adj2" fmla="val 789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vie"/>
              </a:rPr>
              <a:t>EXPLAN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This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dea is important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because it makes the reader aware of how we need to take action if we suspect violence even if it is in people’s hom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1600200"/>
            <a:ext cx="3124440" cy="1981080"/>
          </a:xfrm>
          <a:prstGeom prst="borderCallout2">
            <a:avLst>
              <a:gd name="adj1" fmla="val 18750"/>
              <a:gd name="adj2" fmla="val -8333"/>
              <a:gd name="adj3" fmla="val 5768"/>
              <a:gd name="adj4" fmla="val -13111"/>
              <a:gd name="adj5" fmla="val -23638"/>
              <a:gd name="adj6" fmla="val -24439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 from ques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352680"/>
            <a:ext cx="3692520" cy="1905120"/>
          </a:xfrm>
          <a:prstGeom prst="borderCallout1">
            <a:avLst>
              <a:gd name="adj1" fmla="val 18750"/>
              <a:gd name="adj2" fmla="val -8333"/>
              <a:gd name="adj3" fmla="val -30333"/>
              <a:gd name="adj4" fmla="val -18314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esn’t use I but uses ‘the reader’ inst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57200"/>
            <a:ext cx="4724280" cy="274320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45328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the second half of the question: Why is the idea import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10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This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character is</a:t>
            </a:r>
            <a:r>
              <a:rPr b="0" lang="en-US" sz="6000" spc="-1" strike="noStrike">
                <a:solidFill>
                  <a:srgbClr val="ff3300"/>
                </a:solidFill>
                <a:latin typeface="Kristen ITC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nteresting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because he reveals the idea of how people are too scared to interfere in domestic violence.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3733920"/>
            <a:ext cx="3124080" cy="1981080"/>
          </a:xfrm>
          <a:prstGeom prst="borderCallout2">
            <a:avLst>
              <a:gd name="adj1" fmla="val 18750"/>
              <a:gd name="adj2" fmla="val -8333"/>
              <a:gd name="adj3" fmla="val 5768"/>
              <a:gd name="adj4" fmla="val -13564"/>
              <a:gd name="adj5" fmla="val -41666"/>
              <a:gd name="adj6" fmla="val -24745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 from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6680" y="0"/>
            <a:ext cx="3692520" cy="1905120"/>
          </a:xfrm>
          <a:prstGeom prst="borderCallout1">
            <a:avLst>
              <a:gd name="adj1" fmla="val 18750"/>
              <a:gd name="adj2" fmla="val -8333"/>
              <a:gd name="adj3" fmla="val 156000"/>
              <a:gd name="adj4" fmla="val 125754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lates back to the ideas of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0"/>
            <a:ext cx="4572000" cy="3276720"/>
          </a:xfrm>
          <a:prstGeom prst="borderCallout1">
            <a:avLst>
              <a:gd name="adj1" fmla="val 18750"/>
              <a:gd name="adj2" fmla="val -8333"/>
              <a:gd name="adj3" fmla="val 75240"/>
              <a:gd name="adj4" fmla="val 124861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the second half of the question: Why is the character inters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80880"/>
            <a:ext cx="601992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638680"/>
            <a:ext cx="60958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600200"/>
            <a:ext cx="601992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IDEA 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895480"/>
            <a:ext cx="609588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IDEA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267080"/>
            <a:ext cx="609588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IDEA 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1066680"/>
            <a:ext cx="1828800" cy="1752840"/>
          </a:xfrm>
          <a:prstGeom prst="leftArrowCallout">
            <a:avLst>
              <a:gd name="adj1" fmla="val 25002"/>
              <a:gd name="adj2" fmla="val 25000"/>
              <a:gd name="adj3" fmla="val 17389"/>
              <a:gd name="adj4" fmla="val 666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838080"/>
            <a:ext cx="4038480" cy="3733920"/>
          </a:xfrm>
          <a:prstGeom prst="leftArrowCallout">
            <a:avLst>
              <a:gd name="adj1" fmla="val 13862"/>
              <a:gd name="adj2" fmla="val 13435"/>
              <a:gd name="adj3" fmla="val 19108"/>
              <a:gd name="adj4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way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a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tw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a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19720" y="304920"/>
            <a:ext cx="4419360" cy="1828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you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52280"/>
            <a:ext cx="2590920" cy="1828800"/>
          </a:xfrm>
          <a:prstGeom prst="cloudCallout">
            <a:avLst>
              <a:gd name="adj1" fmla="val 83518"/>
              <a:gd name="adj2" fmla="val 48958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554200"/>
            <a:ext cx="84582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nce again this should be kept simple and to the point. You need only include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Clearly answer the question once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tate your key ideas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Include a personal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In conclusion, Kirby is an </a:t>
            </a:r>
            <a:r>
              <a:rPr b="0" lang="en-US" sz="3600" spc="-1" strike="noStrike">
                <a:solidFill>
                  <a:srgbClr val="808080"/>
                </a:solidFill>
                <a:latin typeface="Kristen ITC"/>
              </a:rPr>
              <a:t>interesting character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i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Kristen ITC"/>
              </a:rPr>
              <a:t>I Am Not Esther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. She was </a:t>
            </a:r>
            <a:r>
              <a:rPr b="0" lang="en-US" sz="3600" spc="-1" strike="noStrike">
                <a:solidFill>
                  <a:srgbClr val="808080"/>
                </a:solidFill>
                <a:latin typeface="Kristen ITC"/>
              </a:rPr>
              <a:t>interesting</a:t>
            </a:r>
            <a:r>
              <a:rPr b="0" lang="en-US" sz="3600" spc="-1" strike="noStrike">
                <a:solidFill>
                  <a:srgbClr val="c0c0c0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because through her the themes of courage and personal identity were raised.  Finally she was</a:t>
            </a:r>
            <a:r>
              <a:rPr b="0" lang="en-US" sz="3600" spc="-1" strike="noStrike">
                <a:solidFill>
                  <a:srgbClr val="c0c0c0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Kristen ITC"/>
              </a:rPr>
              <a:t>interesting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because she provoked an emotional response from the readers.  I admired the way she dealt with the obstacles and hoped she would be able to sort her problems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438280" y="1981080"/>
            <a:ext cx="7162920" cy="4876920"/>
            <a:chOff x="2438280" y="1981080"/>
            <a:chExt cx="7162920" cy="4876920"/>
          </a:xfrm>
        </p:grpSpPr>
        <p:sp>
          <p:nvSpPr>
            <p:cNvPr id="273" name=""/>
            <p:cNvSpPr/>
            <p:nvPr/>
          </p:nvSpPr>
          <p:spPr>
            <a:xfrm>
              <a:off x="2438280" y="4952880"/>
              <a:ext cx="2460600" cy="1905120"/>
            </a:xfrm>
            <a:prstGeom prst="borderCallout1">
              <a:avLst>
                <a:gd name="adj1" fmla="val 18750"/>
                <a:gd name="adj2" fmla="val -8333"/>
                <a:gd name="adj3" fmla="val -35750"/>
                <a:gd name="adj4" fmla="val -39546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Uses the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40600" y="1981080"/>
              <a:ext cx="2460600" cy="1905120"/>
            </a:xfrm>
            <a:prstGeom prst="borderCallout1">
              <a:avLst>
                <a:gd name="adj1" fmla="val 18750"/>
                <a:gd name="adj2" fmla="val -8333"/>
                <a:gd name="adj3" fmla="val -7500"/>
                <a:gd name="adj4" fmla="val -10643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Uses the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00600" y="3352680"/>
              <a:ext cx="2460600" cy="1905120"/>
            </a:xfrm>
            <a:prstGeom prst="borderCallout1">
              <a:avLst>
                <a:gd name="adj1" fmla="val 18750"/>
                <a:gd name="adj2" fmla="val -8333"/>
                <a:gd name="adj3" fmla="val -36416"/>
                <a:gd name="adj4" fmla="val -32453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Uses the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0" y="0"/>
            <a:ext cx="3146400" cy="2057400"/>
          </a:xfrm>
          <a:prstGeom prst="borderCallout1">
            <a:avLst>
              <a:gd name="adj1" fmla="val 18750"/>
              <a:gd name="adj2" fmla="val -8333"/>
              <a:gd name="adj3" fmla="val 56018"/>
              <a:gd name="adj4" fmla="val 174166"/>
            </a:avLst>
          </a:prstGeom>
          <a:solidFill>
            <a:srgbClr val="c0c0c0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early answers the ques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914400"/>
            <a:ext cx="4038480" cy="2819520"/>
          </a:xfrm>
          <a:prstGeom prst="cloudCallout">
            <a:avLst>
              <a:gd name="adj1" fmla="val -19652"/>
              <a:gd name="adj2" fmla="val 76578"/>
            </a:avLst>
          </a:prstGeom>
          <a:solidFill>
            <a:srgbClr val="c0c0c0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ludes a personal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04920" y="0"/>
            <a:ext cx="6476760" cy="3733920"/>
            <a:chOff x="304920" y="0"/>
            <a:chExt cx="6476760" cy="3733920"/>
          </a:xfrm>
        </p:grpSpPr>
        <p:sp>
          <p:nvSpPr>
            <p:cNvPr id="279" name=""/>
            <p:cNvSpPr/>
            <p:nvPr/>
          </p:nvSpPr>
          <p:spPr>
            <a:xfrm>
              <a:off x="304920" y="0"/>
              <a:ext cx="3375000" cy="2527200"/>
            </a:xfrm>
            <a:prstGeom prst="borderCallout1">
              <a:avLst>
                <a:gd name="adj1" fmla="val 18750"/>
                <a:gd name="adj2" fmla="val -8333"/>
                <a:gd name="adj3" fmla="val 88064"/>
                <a:gd name="adj4" fmla="val 184666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Clearly outlines the key ideas again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3048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5880" y="251460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4120" y="19810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4419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Ravie"/>
              </a:rPr>
              <a:t>And  it’s that simpl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AG00406_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313160" cy="35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the ques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7010280" cy="358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0000"/>
                </a:solidFill>
                <a:uFillTx/>
                <a:latin typeface="Tahoma"/>
              </a:rPr>
              <a:t>Re-read</a:t>
            </a:r>
            <a:r>
              <a:rPr b="0" lang="en-US" sz="7800" spc="-1" strike="noStrike">
                <a:solidFill>
                  <a:srgbClr val="000000"/>
                </a:solidFill>
                <a:latin typeface="Tahoma"/>
              </a:rPr>
              <a:t> the question you </a:t>
            </a:r>
            <a:r>
              <a:rPr b="0" lang="en-US" sz="7800" spc="-1" strike="noStrike" u="sng">
                <a:solidFill>
                  <a:srgbClr val="000000"/>
                </a:solidFill>
                <a:uFillTx/>
                <a:latin typeface="Tahoma"/>
              </a:rPr>
              <a:t>choose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55875"/>
              <a:gd name="adj2" fmla="val 56189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nderline the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keywo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3352680"/>
            <a:ext cx="7010280" cy="327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key ide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evid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3:58:36Z</dcterms:created>
  <dc:creator>Staff</dc:creator>
  <dc:description/>
  <dc:language>en-US</dc:language>
  <cp:lastModifiedBy>cindyl</cp:lastModifiedBy>
  <dcterms:modified xsi:type="dcterms:W3CDTF">2003-08-28T02:04:35Z</dcterms:modified>
  <cp:revision>47</cp:revision>
  <dc:subject/>
  <dc:title>ESSAY WRITING</dc:title>
</cp:coreProperties>
</file>